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png" ContentType="image/png"/>
  <Override PartName="/ppt/media/image30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6.jpeg" ContentType="image/jpeg"/>
  <Override PartName="/ppt/media/image13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3.png" ContentType="image/png"/>
  <Override PartName="/ppt/media/image5.png" ContentType="image/png"/>
  <Override PartName="/ppt/media/image35.png" ContentType="image/png"/>
  <Override PartName="/ppt/media/image18.wmf" ContentType="image/x-wmf"/>
  <Override PartName="/ppt/media/image20.wmf" ContentType="image/x-wmf"/>
  <Override PartName="/ppt/media/image10.wmf" ContentType="image/x-wmf"/>
  <Override PartName="/ppt/media/image25.png" ContentType="image/png"/>
  <Override PartName="/ppt/media/image11.wmf" ContentType="image/x-wmf"/>
  <Override PartName="/ppt/media/image12.png" ContentType="image/png"/>
  <Override PartName="/ppt/media/image7.wmf" ContentType="image/x-wmf"/>
  <Override PartName="/ppt/media/image36.png" ContentType="image/png"/>
  <Override PartName="/ppt/media/image19.wmf" ContentType="image/x-wmf"/>
  <Override PartName="/ppt/media/image37.png" ContentType="image/png"/>
  <Override PartName="/ppt/media/image4.jpeg" ContentType="image/jpeg"/>
  <Override PartName="/ppt/media/image8.wmf" ContentType="image/x-wmf"/>
  <Override PartName="/ppt/media/image28.wmf" ContentType="image/x-wmf"/>
  <Override PartName="/ppt/media/image3.jpeg" ContentType="image/jpeg"/>
  <Override PartName="/ppt/media/image15.png" ContentType="image/png"/>
  <Override PartName="/ppt/media/image32.wmf" ContentType="image/x-wmf"/>
  <Override PartName="/ppt/media/image2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6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8D8-13EF-4149-9126-1E416BBF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0B3-3ED3-4F9A-B4E6-65B14B19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56F-CB52-4B74-818E-CCAF89C5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72D-4311-4991-8200-3274A00C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56B8-05B4-4027-96D6-5EA92753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1FB8-57A6-4FDA-BC97-83D738DD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E626-8041-431D-A8AB-BB7F069A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C82B-3161-4464-9D07-9B310B7B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58E8-059B-4047-BC9B-86587024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9264-1B29-40CA-9067-791D513E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63B4-C4CB-4D9C-A28F-FF1A893B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DE4A-6282-421D-B115-73CEF4AC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B24E-B8F8-47AE-AD2D-E825AEB6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7869-9D89-4F9F-8351-C24AD721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9CAF-C226-448B-BA62-78A0A84B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F2CF-B349-4F31-AF58-424CC1E6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20B6-552A-4541-BE08-D3FC4486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9B5-8EC2-4341-A7F3-586F21C9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FF51-BE83-4A34-82B7-8C012C7A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BA4-EA31-49CE-801E-5057B728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D47-E473-4844-9191-D10ABEA3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98C2-0BF5-4D11-9D85-3A6D7370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D1C-A2AF-46EF-ACC2-201ACC6C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C90-6BC2-4AEF-9D31-AD2E8032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7F83-A5D4-466C-B648-6BA01F654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4220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0D9B-0308-4F38-85FE-0DA0FD7B0D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42200" cy="396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pleasuredrome.co.uk/Images//FlyersPress//boltoneveningnewsarticle.jpg&amp;imgrefurl=http://www.thepleasuredrome.co.uk/ShowImage.aspx%3Ftype%3Dflyerpress%26imgid%3D006&amp;usg=__586ETb1IWikPeaLaI2L9_hJDFf8=&amp;h=768&amp;w=716&amp;sz=426&amp;hl=en&amp;start=18&amp;tbnid=0x9r74wo7IHZWM:&amp;tbnh=142&amp;tbnw=132&amp;prev=/images%3Fq%3DClub%2Bdrugs%26gbv%3D2%26hl%3Den%26sa%3D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 Black"/>
              </a:rPr>
              <a:t>Club Drugs</a:t>
            </a:r>
            <a:endParaRPr b="0" lang="en-US" sz="54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120" y="1905120"/>
            <a:ext cx="780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600200"/>
            <a:ext cx="213336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486400" y="914400"/>
            <a:ext cx="2876400" cy="289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200400" y="3581280"/>
            <a:ext cx="289548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57200" y="1523880"/>
            <a:ext cx="27622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XTC, X, E, Adam, Clarity, Lover’s Speed, hug-drug, E-bomb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wallowed: tablet or capsule.  Normal dosage --100-125 m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”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ositive feelings and empathy for others, feelings of being close to others, decrease in anxiety, euphoria, decreased appetite, decreased thirst or need for slee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creased energy, nausea, hallucinations, chills, sweating, shaking, blurred vision, rapid heart beat, high blood pressure, muscle cramp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Heat stroke, severe dehydration, possible changes in brain functioning, memory problems, serious depres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ution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ing Ecstasy with Ritonovir (HIV med) can cause dea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ing X with other drugs can lead to adverse rea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aware that other drugs are sold as Ecstasy, but they are not (DXM, PM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tually, you “run out” of Serotonin, regardless of how much you tak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you know what you are taking (use a test kit, if possibl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ing more may not give you a greater high and may only increase negative side eff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ch for overheating and dehydrating.  Drink water and cool off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- Test Kit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Methamph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33800" y="1447920"/>
            <a:ext cx="6010200" cy="4841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3657600" cy="2976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80880" y="4248000"/>
            <a:ext cx="449604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peed, tina, ice, crystal, meth, crystal meth, crank, fire, gl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norted, smoked, injected, swallow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”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energy, elevated mood, increased sexual arousal, confidence and pleasure, appetite suppressa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Methamph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Anxiety, rapid heart beat, sweating, energ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Violence/aggression, hallucinations, paranoia, heart attack, HIV and other transmittable diseases, nerve damage, chronic depression, tooth loss, gum dise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Methamph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Methamph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u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a lot of meth can lead to serious emotional and physical probl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oking and injecting meth is the most dangero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 contains a lot of dangerous 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Key Messages…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concern is for health and safe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using is saf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 use, there are ways to reduc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less risk with less use, more ris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more use.  No risk with no 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Methamph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 your sour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t and drink plenty of water before, during and after 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stay up longer than 2-3 day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some quite/relaxatio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aware of your own risk-taking behavi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injecting, use brand new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LSD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33920" y="4952880"/>
            <a:ext cx="830160" cy="855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048120" y="3809880"/>
            <a:ext cx="885600" cy="955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514600" y="5334120"/>
            <a:ext cx="1062000" cy="1079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295280" y="4419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457200" y="5562720"/>
            <a:ext cx="698400" cy="677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011240" y="3200400"/>
            <a:ext cx="992160" cy="1022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2514600" y="685800"/>
            <a:ext cx="64008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cid, boomers, liquid sunshine, blot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cking on a “blotter” on the tongue, sugar cu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”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hallucin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LS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Dilated pupils, higher body temperature, increased heart rate and blood pressure, sweating, loss of appetite, sleeplessness, dry mouth, and tremors, numbness, weakness, or trembling, nausea, hallucinations, laug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Possible “flashbacks”; poor judgement leading to accidents (crashes, jumping off high plac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LSD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with those you kn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a safe environ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t driv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LSD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Inhalants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981080"/>
            <a:ext cx="403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opp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581280"/>
            <a:ext cx="19051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Solve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3822840" cy="3060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048120" y="40384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09480" y="2666880"/>
            <a:ext cx="2908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Inhalants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Lighter fluid, aerosols, embalming fluid (sherm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olv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Glue, degreasers, paint thin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itrit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Poppers, snappers, rush, bold bullet, locker roo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of 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Sniffed, huffed, bagg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Hig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izziness, sexual arousal, floating, sleepy, hyper---the high var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Nausea, sneezing, fatigue, coughing, nose bleeds, rapid pulse, headaches, involuntary release urination or feces, impaired judg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Violent behavior, loss of consciousness, loss of feeling in hands and feet, Kidney damage, brain damage, loss of smell, hearing, memory and bone marrow; hepatit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Inhalants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Inhalants</a:t>
            </a: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u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ffing or using plastic bags increases your risk of overdosing/dea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halants can cause serious damage to lungs and brain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ppers and Viagra can lower blood pressure, cause heart or brain damage and lead to death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1828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Date Rape Drugs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057400" y="32000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void Becoming  Victim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ing drugs increases risk for ha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one responds differentl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ru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 use, learn as much as you c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About your bo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About your suppli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About the dru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with trusted others, possibly eve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d oth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Key Messages…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886040"/>
            <a:ext cx="8686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it and how does it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mma-hydroxy-buty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acts as a “depressant” (slows heart, breathing, decreases release of NT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ly used as an “anti-depressant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used in body building (muscle builder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quid X, Grievous Bodily Harm, Georgia Home Boy, Cherry Meth, Scoop, Easy Lay, “G”, Salty Water, Soa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liquid (dissolved in drinks), white powder, tablet and capsu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”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dation, euphoria, drunk-like feeling. Slows down activities.  Social drug - can release inhibi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3353040" cy="3019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755800" cy="5041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6629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33160" y="4114440"/>
            <a:ext cx="817884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nse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0-20 minute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ing U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5-30 minut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lateau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5 min - 1 1/2 hour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ing Dow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5-30 minut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fter Effect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-4 hour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48320" y="4959360"/>
          <a:ext cx="1604880" cy="80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959360"/>
                    <a:ext cx="160488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7632720" cy="23749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ausea, vomiting, headache, loss of consciousness, coma, seizures, convulsions, difficulty brea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exual assaults, dea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ing GHB with alcohol and other drugs is dangero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se safety range is narr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drive on GHB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dosing by a small amount can lead to unconsciousness and vomi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omeone is unconscious or vomiting, lay them on their side and call for hel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mix GHB with other drugs, especially alcoh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 by taking a small dose and wa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aware of any strange taste (salty) in your dr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it and how does it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unitrazepam- a prescribed sleeping pil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X stronger than Valiu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 sedat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a “paralysis” type effect in some peop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Rohypnol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3808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809880"/>
            <a:ext cx="541044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80520" y="182880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ofies, Rophies, Rope, Roach, “trip and fall”, the “Forget Pill”, “Date Rape Pill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ed in drink, swallowed, snor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”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eepy, dizzy, relaxed-drunk feeling. Duration of 10 minutes to 8 hou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Rohypnol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4889520" cy="4051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Rohypnol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48320" y="3657600"/>
            <a:ext cx="4267080" cy="289548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685800" y="1219320"/>
            <a:ext cx="5181480" cy="4038480"/>
            <a:chOff x="685800" y="1219320"/>
            <a:chExt cx="5181480" cy="4038480"/>
          </a:xfrm>
        </p:grpSpPr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685800" y="1219320"/>
              <a:ext cx="518148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758520" y="1255680"/>
              <a:ext cx="5025960" cy="39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cc"/>
                </a:buClr>
                <a:buFont typeface="Monotype Sorts" charset="2"/>
                <a:buChar char="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Rohypnol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’t speak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s of motor control, slurred speech, confusion, gastrointestinal problems, dizziness, urinary retention, blackouts, seizu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xual assaults.  Mixing with alcohol or other drugs can be very dangerous and lead to death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 Black"/>
              </a:rPr>
              <a:t>Club Drugs</a:t>
            </a:r>
            <a:endParaRPr b="0" lang="en-US" sz="54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45720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coh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cstas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ethamphetam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halant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05160" y="1905120"/>
            <a:ext cx="3606840" cy="41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S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HB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ohypn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tam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Avoid becoming a victim!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ug Induced Rape Prevention Act of 1996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s penalty for use of ANY controlled substance to aid in a sexual assaul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f you think you could have been poisoned, seek help immediatel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HB: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Test within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four to eight hr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2 hrs for urine tes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t leaves the system very rapidly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ohypnol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ys in system for up to 48 h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153280" cy="49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wary of drinks from anyone you don’t know or tru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accept a drink, make sure it’s from an unopened contai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leave drink unatten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think that you have been a victim, notify authorit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Avoid becoming a victim!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it and how does it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tamine-hydorchlor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sociative Anaesthe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CP, DXM, nitrous oxide (laughing gas) are also dissociative anaesthetic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nimal tranquiliz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imes used as an anesthetic on young children and the elder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K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8380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K, Vitamin K, Ketalar, Kit-Kat, K, Cat Valiu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norted, swallowed, smoked, injected (usually I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Pleasant” feelings, weightlessness, decreased inhibitions, out-of-body experience.  Minor Hallucinogen. “K-Hole”:  near death type experie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K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419720" y="609480"/>
            <a:ext cx="3962160" cy="3086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K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733920" y="3124080"/>
            <a:ext cx="4143240" cy="3486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34034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057400" y="4724280"/>
            <a:ext cx="4724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ck of coordination, confusion, seizures, high blood pressure, depression, numbness in le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xual assault, respiratory collapse-death, kidney damage, difficulty moving, dea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K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oid mixing Ketamine with other drugs, especially alcohol and other depressa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 by taking a small dose and wa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oid injec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injecting, use clean, sterile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K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Key Messages…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 concern is for health and safe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using is saf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 use, there are ways to reduc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m. (Do understand that these drugs may and can steel your life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less risk with less use, more ris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more 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ing drugs increases risk for ha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one responds differentl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ru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 use, learn as much as you c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About your bo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About your suppli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About the dru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with trusted others, possibly eve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d oth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Key Messages…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-228600" y="1287360"/>
          <a:ext cx="9829800" cy="557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287360"/>
                    <a:ext cx="9829800" cy="55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304920"/>
            <a:ext cx="823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Number of Emergency Dept. Episodes &amp; Mentions of Club Drugs 1994 -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34120" y="6553080"/>
            <a:ext cx="25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Source……………………..DA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Estimated Rate of Club Drug Emergency Dept. Episodes &amp; Mentions in Seattle:  1999 - 2001</a:t>
            </a:r>
            <a:endParaRPr b="0" lang="en-US" sz="3200" spc="-1" strike="noStrike">
              <a:solidFill>
                <a:srgbClr val="ff3300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752480"/>
          <a:ext cx="8178840" cy="417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178840" cy="41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28480" y="1711440"/>
          <a:ext cx="8079120" cy="45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480" y="1711440"/>
                    <a:ext cx="807912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6234120" y="6553080"/>
            <a:ext cx="25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Source……………………..DA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Number of Club Drug Emergency Dept. Mentions by age:  2001</a:t>
            </a:r>
            <a:endParaRPr b="0" lang="en-US" sz="3200" spc="-1" strike="noStrike">
              <a:solidFill>
                <a:srgbClr val="ff3300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9280" y="1622520"/>
          <a:ext cx="891720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2520"/>
                    <a:ext cx="891720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234120" y="6553080"/>
            <a:ext cx="25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Source……………………..DA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Number of Club Drug Emergency Dept. Mentions by race/ethnicity:  2001</a:t>
            </a:r>
            <a:endParaRPr b="0" lang="en-US" sz="3200" spc="-1" strike="noStrike">
              <a:solidFill>
                <a:srgbClr val="ff3300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1622520"/>
          <a:ext cx="891720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2520"/>
                    <a:ext cx="891720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234120" y="6553080"/>
            <a:ext cx="25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Source……………………..DA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it and how does it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3,4-methylenedioxymethamphetamin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mphetamine analogue that produces euphoria, feelings of closeness to others and stimulant eff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s as a short term antidepressant by releasing large  amounts of Serotonin (a neurotransmitter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18:54:32Z</dcterms:created>
  <dc:creator>King County</dc:creator>
  <dc:description/>
  <dc:language>en-US</dc:language>
  <cp:lastModifiedBy>Daly Dominguez</cp:lastModifiedBy>
  <cp:lastPrinted>2002-07-30T18:59:16Z</cp:lastPrinted>
  <dcterms:modified xsi:type="dcterms:W3CDTF">2009-07-28T06:25:27Z</dcterms:modified>
  <cp:revision>9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metrokc.gov/health/apu</vt:lpwstr>
  </property>
  <property fmtid="{D5CDD505-2E9C-101B-9397-08002B2CF9AE}" pid="9" name="LinkColor">
    <vt:r8>16711782</vt:r8>
  </property>
  <property fmtid="{D5CDD505-2E9C-101B-9397-08002B2CF9AE}" pid="10" name="MailAddress">
    <vt:lpwstr>hivstd.info@metrokc.gov</vt:lpwstr>
  </property>
  <property fmtid="{D5CDD505-2E9C-101B-9397-08002B2CF9AE}" pid="11" name="NavBtnPos">
    <vt:r8>4</vt:r8>
  </property>
  <property fmtid="{D5CDD505-2E9C-101B-9397-08002B2CF9AE}" pid="12" name="Other">
    <vt:lpwstr>
HIV/AIDS Program 
Seattle-King County Dept. of Public Health 
Phone: (206)205-STDs 
E-mail: hivstd.info@metrokc.gov
                   Larry Keil /Susie McIntyre 
                   HIV/AIDS Pro</vt:lpwstr>
  </property>
  <property fmtid="{D5CDD505-2E9C-101B-9397-08002B2CF9AE}" pid="13" name="OutputDir">
    <vt:lpwstr>H:\My Documents\homepage\healthed\Power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